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328-27A5-4D7F-8C5B-62AB9006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3D4-4EA9-4C27-8E9C-1DFC0DFA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433-F286-42AE-B871-A6E6FAE0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4AB-1553-4537-9C06-AF721A44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DE81-1B6C-4712-BCB3-ECA29C27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E6A9-5BCD-45C4-811F-8995F150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37F4-07E1-4EE4-A3F9-DEE8C4D4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9DDC-C7BF-4007-BF3F-98D255C0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F692-6C49-47C7-8023-91E2B44B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C4A8-8B51-439D-AEC3-68C627AA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DBB-6D51-4480-8722-B9849F76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7B0-E62F-40CE-810F-2777EE7B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BF0E-852C-460B-9678-ED1E681F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D7C-CF8B-44C0-B94C-37EFA92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B752-23E1-43D5-BC75-75CB662C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8DC9-8781-4299-9970-5C8FF07A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EEC5-0BA2-48B1-8616-75CDE32F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ECAC-E661-4992-A84A-4E9DE1A9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DAB5-FE7C-49F2-B6F9-79CA7A2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DBCB-6C92-414D-BF11-DA88801B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754E-EA73-4EE7-9023-3C4011CE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B35D-B0A5-4AD0-B9E1-2915B744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19F-4C05-4B90-A183-F22604FB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E068-43BB-4249-A59A-012F133D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287C-72EF-459F-BD97-3322BFB1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F2A9D-6F1F-4D9A-B286-7110AD71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48F6-8C31-468A-9A96-D4D5C7F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DBFC-3766-478D-9640-92F7873E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201AD-45F9-4D05-8304-A89B6434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3A4D-4221-4402-B07D-69C7884A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F235-426D-40D3-87F9-D73FE56E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C0DB-F5DD-4370-B59F-E0F301F1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CCC4-1E48-492E-BAD1-A9170E5C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1AD-052D-4930-92AE-F6B1247E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D1E6-6F87-47DD-A66B-EC98A1DB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0D86F-96EE-4399-B1CB-2798CEBB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FCD12-0F8E-45E2-A0D3-1273B028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A2A1-0F9B-4754-ACEB-A2BFA10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BD76-F46B-45FA-805E-3BCAD4BD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63F79-77CE-49CC-862D-BF05416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6CC5A-9BF4-4299-89DA-5A24A285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7D57-6F51-48F0-9933-BA05234F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43C54-4F15-410E-A97A-CD291164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75190-B9FD-4731-A66C-100C1BBE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D7D-95A1-496E-B95C-E2B27D55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CBCF3-0B83-4AF0-961D-73530ADC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85CE7-B9B9-4FCF-A4A4-D17651BD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A581-4E4B-4ABD-89C3-D6CBCF50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8E22-EC49-45DB-9A44-8894C814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539B1-A6B0-4AE4-844A-E5E5ED45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FD659-AFD6-4602-BB95-CCE1EA58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C36AC-B5DD-4E83-AAF8-0922329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3C90B-23AB-4387-BA5E-75E1E94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A9E0-296E-46E8-A679-E21D2B9B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76A7E-5255-467A-87A8-7E58773C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FF1-36E5-4CA7-9926-318C769C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7842-E501-4249-AAB0-0BB66C0C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EE2-5D8A-422C-8588-29EE533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B22-D14E-46B4-A859-38ED163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980-A71A-444A-8AA4-7721A7F0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A5A0-1E99-4EC6-9BEA-B657F109A741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C98E-C860-4597-8267-CF7CBA26BEBD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EA71-0CC4-4493-81D0-96ECA9563932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56DF-E95E-40E7-B6EF-B69204F4BC08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1D04-C484-4FFD-8C0C-7CCAAE4A3D4E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5"/>
          <p:cNvSpPr/>
          <p:nvPr/>
        </p:nvSpPr>
        <p:spPr>
          <a:xfrm>
            <a:off x="1258920" y="476280"/>
            <a:ext cx="6697800" cy="6192720"/>
          </a:xfrm>
          <a:custGeom>
            <a:avLst/>
            <a:gdLst>
              <a:gd name="textAreaLeft" fmla="*/ 1528920 w 6697800"/>
              <a:gd name="textAreaRight" fmla="*/ 5168880 w 6697800"/>
              <a:gd name="textAreaTop" fmla="*/ 1413720 h 6192720"/>
              <a:gd name="textAreaBottom" fmla="*/ 477900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57120" y="270828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й диктант</a:t>
            </a:r>
            <a:r>
              <a:rPr b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348000" y="3716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 – (+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т- (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785880" y="1143000"/>
            <a:ext cx="764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е входит в основу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 двух корне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7786800" y="571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изменить значение слова на противоположно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большо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едмет превратить в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леньк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сколько суффиксов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олько одна  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слова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а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н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являются однокоренным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лолёд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два корн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но ли, что в приставка на –з и (-с)  перед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звонкими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ыми пишется 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,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 перед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глухими – З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37000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32748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981000"/>
            <a:ext cx="77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рно ли, что слова белый, белая, белое, белые –  являются </a:t>
            </a:r>
            <a:r>
              <a:rPr b="0" lang="ru-RU" sz="4800" spc="-1" strike="noStrike">
                <a:solidFill>
                  <a:srgbClr val="da1f28"/>
                </a:solidFill>
                <a:latin typeface="Arial"/>
              </a:rPr>
              <a:t>однокоренным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298360" y="496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042920" y="126828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евиз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Если правило ты знаеш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ез запинки отвечаеш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YQTAR7CAHT7S23CA9K1OVBCA0FN4O2CA90I43JCAA3S870CA57NV95CATPEYGCCAJ0RSZ3CAHMUH3CCAS7YTKHCAD3MKK1CAI53JBECAU6HDVNCABYZJ9QCASXJXMUCAHFJG7DCAWDQ70RCA70BFI3CA6PS10R"/>
          <p:cNvPicPr/>
          <p:nvPr/>
        </p:nvPicPr>
        <p:blipFill>
          <a:blip r:embed="rId1"/>
          <a:stretch/>
        </p:blipFill>
        <p:spPr>
          <a:xfrm>
            <a:off x="5940360" y="4005360"/>
            <a:ext cx="2519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755640" y="1052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рно ли, что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со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приставках, кроме приставок на -з ( с) и приставок  пре- и при- , пишутся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одинаков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езависимо от произнош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370000" y="5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8226720" y="42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39640" y="71280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но ли , что в корне слова после шипящих под удар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всег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ишется   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684360" y="134136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но ли, что буква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сле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шется в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корн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в словах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на –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29836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ca478fc61bab81f033cd9834f430ec50"/>
          <p:cNvPicPr/>
          <p:nvPr/>
        </p:nvPicPr>
        <p:blipFill>
          <a:blip r:embed="rId1"/>
          <a:stretch/>
        </p:blipFill>
        <p:spPr>
          <a:xfrm>
            <a:off x="6300720" y="4149720"/>
            <a:ext cx="2460600" cy="2244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1763640" y="63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95280" y="1484280"/>
            <a:ext cx="851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-; 2 + ;3+; 4 -; 5 +; 6+; 7 -; 8 +; 9+; 10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+; 12+; 13-; 14+; 15+; 16-; 17- ; 18+;19 – ;20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Рисунок16"/>
          <p:cNvPicPr/>
          <p:nvPr/>
        </p:nvPicPr>
        <p:blipFill>
          <a:blip r:embed="rId1"/>
          <a:stretch/>
        </p:blipFill>
        <p:spPr>
          <a:xfrm>
            <a:off x="0" y="-171360"/>
            <a:ext cx="3311640" cy="4105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2843280" y="620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РИТЕРИИ ОЦ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24000" y="393480"/>
            <a:ext cx="727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и ме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-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-15  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 - 20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2222"/>
          <p:cNvPicPr/>
          <p:nvPr/>
        </p:nvPicPr>
        <p:blipFill>
          <a:blip r:embed="rId2"/>
          <a:stretch/>
        </p:blipFill>
        <p:spPr>
          <a:xfrm>
            <a:off x="6732720" y="155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3333"/>
          <p:cNvPicPr/>
          <p:nvPr/>
        </p:nvPicPr>
        <p:blipFill>
          <a:blip r:embed="rId3"/>
          <a:stretch/>
        </p:blipFill>
        <p:spPr>
          <a:xfrm>
            <a:off x="6877080" y="2492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4444"/>
          <p:cNvPicPr/>
          <p:nvPr/>
        </p:nvPicPr>
        <p:blipFill>
          <a:blip r:embed="rId4"/>
          <a:stretch/>
        </p:blipFill>
        <p:spPr>
          <a:xfrm>
            <a:off x="6948360" y="3429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5555"/>
          <p:cNvPicPr/>
          <p:nvPr/>
        </p:nvPicPr>
        <p:blipFill>
          <a:blip r:embed="rId5"/>
          <a:stretch/>
        </p:blipFill>
        <p:spPr>
          <a:xfrm>
            <a:off x="7093080" y="4365720"/>
            <a:ext cx="7635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214200" y="114300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еми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я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одно и то ж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главная значимая  часть слов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вляется изменяемой частью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785880" y="114300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лужат для образования форм одного  и того же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а-   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это часть слова без оконча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корни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 из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ой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уквы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у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юбого</a:t>
            </a:r>
            <a:r>
              <a:rPr b="1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лова есть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3-11T17:37:51Z</dcterms:modified>
  <cp:revision>44</cp:revision>
  <dc:subject/>
  <dc:title>Слайд 1</dc:title>
</cp:coreProperties>
</file>